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A8D8-176B-4E85-9471-9E3AF9946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7E2E-A65D-489C-B1F7-89E8FED70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2C3C-DAC1-4778-A38C-59D2581EF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0B6D-FC2A-4308-9E4D-CBC288CC4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EFC28-925A-4BF8-BA5C-CF28F7D22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651B2-1770-4EC2-AB5C-A842CEE17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7BFB2-16AC-4AA1-A78A-E3018A042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E7D76-8A9C-45FB-ADE2-1881D1E27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C53BC-7280-43CD-8368-702211FB7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D01C2-FDE9-4E65-8800-38B4321BC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219DD-296D-4287-A4C6-D3C88EF6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05DA-A6E9-43EB-9A87-051D1801F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015DD-F772-45BC-86F7-83CE5365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42C81-8756-46A6-B2E4-9351F94D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FB02C-2164-4620-909A-2023B88EF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1F822-023F-4B28-9977-638DFEF73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064B4-75B4-49DE-97C7-188D82074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263B6-079B-4F04-B7A4-86F9BB611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F9817-96D9-4B6A-94CD-8A41A3573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6ADA1-41DA-4645-AD88-6E77E98E5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42C6E-AF0D-44A1-8677-95E61133D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7CBA4-1699-4986-B7BC-68FEA709D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0D4A-D3BD-4570-A162-BACA7C54F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71B68-DDF0-4A59-B403-D2D8B187A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0B250-2D0C-445A-9C2E-4AF80169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1CA64-B1A7-45C5-A214-B87749C3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1986C-55E7-4254-AFE2-4ED79983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CB699-BB42-444D-8AB6-1B4E3737A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C49DD-6F8B-4C4B-9FD5-74059A2C3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A33D1-D2F8-4E74-9194-82FE7EEB9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92E8F-D083-4EF9-92FB-101EA787A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BD229-2524-47D3-B9BE-E839F4A05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532DB-7CB9-41FB-AD7A-B0638E76D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5CD4-B19C-465C-8B4D-79478DE0C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E08A1-B98C-4579-8392-2A3A0A665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F9760-548F-49DE-ADF6-A69444C68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FBEB4-F3E1-4E3F-95E7-BD5176DE1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5962F-C92B-473E-A23D-46A7FEB5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6BD66-18EC-4B5A-BD58-3F83759B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8B4C6-E5DF-41BF-89E2-34389DFF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C6281-5B45-479B-BF14-3BD8CEA49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2E3AB-9216-4020-956C-99D39E38A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91786-547A-4F72-9255-17E683229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5D022-2074-4E23-B58B-5F494B8D2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B29E-E125-46A5-AFC8-9EEBAF477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7581F-3D8E-4BEF-8A9C-F6ADF6CC2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D500C-2252-4C5D-80BF-580E480BD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FEAD7-CC4C-4336-B9B1-8BA1AA763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C4BC6-269D-4AFC-885A-A95BC934A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58AC7-6621-4904-AE45-ABE1F19CE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CE5AC-DBBE-44A3-9E12-A35CB9E4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C30D5-78DE-4F28-8918-35DB0961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4E216-B240-40C8-95B1-2C979E80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78792-6C3B-4B34-90AD-19F35E77F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C9176-D5B9-42D9-9C08-E83DA2875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AA7E-9011-4570-8D4C-6B55EF940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36509-9422-4C06-A8E9-F21D386C4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9330-F883-4531-BDBB-841C4453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9130-2CF9-4661-BE44-E8BE0355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A8E0-1C78-4AD4-BD01-F707B20E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2d05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2d05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2d050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B8C5D-F86E-4C50-A7BC-1A27C46CAD4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2d05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2d05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2d050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6606D-5746-498C-AED5-2AB447ACBAA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2d05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2d05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2d050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5CBD2-477B-4FDC-8102-8F414EE24B1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2d05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2d05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2d050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7E1B5-7512-4A24-9327-9B083E7FC62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2d05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2d05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2d050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8A217-5FDC-4538-882C-39FE783133D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mosmetod.ru/metodicheskoe-prostranstvo/srednyaya-i-starshaya-shkola/tekhnologiya/metodicheskie-materialy/elektr-uch-materialy/dist-ob-tehn-5-7.html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youtu.be/8D3-lFzeq2Y" TargetMode="External"/><Relationship Id="rId2" Type="http://schemas.openxmlformats.org/officeDocument/2006/relationships/hyperlink" Target="https://youtu.be/9jFuxsNOsWA" TargetMode="External"/><Relationship Id="rId3" Type="http://schemas.openxmlformats.org/officeDocument/2006/relationships/hyperlink" Target="https://youtu.be/zpq-8AJj7qo" TargetMode="External"/><Relationship Id="rId4" Type="http://schemas.openxmlformats.org/officeDocument/2006/relationships/hyperlink" Target="https://youtu.be/_-FRMq0HcmQ" TargetMode="External"/><Relationship Id="rId5" Type="http://schemas.openxmlformats.org/officeDocument/2006/relationships/hyperlink" Target="https://youtu.be/tPebztvdej4" TargetMode="Externa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site.bilet.worldskills.ru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285840" y="3213000"/>
            <a:ext cx="853416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mbria"/>
              </a:rPr>
              <a:t>Использование дистанционной формы работы при подготовке учащихся к  итоговой аттестации.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TextBox 1"/>
          <p:cNvSpPr/>
          <p:nvPr/>
        </p:nvSpPr>
        <p:spPr>
          <a:xfrm>
            <a:off x="1201320" y="5661000"/>
            <a:ext cx="713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трудового обучения КГКОУ ШИ14 Амурск Адайкина Н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0" y="285840"/>
            <a:ext cx="885816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Для организации самостоятельной и дифференцированной работы в  школе используется дистанционная форма работы, которая заключается в  следующем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 algn="just">
              <a:lnSpc>
                <a:spcPct val="8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оставляется подборка тестов для тренировки по разным профилям трудового обучения.  К каждому прилагается теоретический материал.  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 algn="just">
              <a:lnSpc>
                <a:spcPct val="8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Во время подготовки учащихся сдающих экзамен по предмету рассылаются задания  через мессенджер 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hatsApp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 algn="just">
              <a:lnSpc>
                <a:spcPct val="8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В случае необходимости делается рассылка на электронную почту, теоретического материала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 algn="just">
              <a:lnSpc>
                <a:spcPct val="8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Для группы учащихся составляется диагностическая карта, в которой отслеживается количество выполненных заданий. В конце недели с каждым ребенком проводится анализ работы, какой объем работ выполнен, есть ли отставание от запланированного, в чем причина отставания, намечаются планы  по коррекции отставания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214200" y="0"/>
            <a:ext cx="871560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Ученик сам выбирает удобный ему режим работы: он присылает решения учителю на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месенджер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WhatsApp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или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о электронной почте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Работу выполняет небольшими порциями по 3-5 заданий, что позволяет учителю оперативно отвечать на его вопросы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Либо отправляет сразу весь объем выполненной работы за неделю (это решается по предварительной договоренности)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Во время выполнения работы ученик может задать вопрос учителю в любое удобное ему время, получить консультацию и получить оперативный ответ. Многие учащиеся активно пользуются этой возможностью, отправляя за вечер учителю по несколько заданий с ответами (своими вариантами решений, возможно, содержащими ошибки) и получали на них сразу ответ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179280" y="213840"/>
            <a:ext cx="896472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Дистанционная форма работы   позволяет      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индивидуализировать процесс 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обучения, варьировать темп и   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частоту выполнения заданий, 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дает возможность оперативно   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обратиться с возникшим вопросом; выстраивать каждому ученику индивидуальную образовательную траекторию, корректировать ее походу подготовки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14200" y="285480"/>
            <a:ext cx="878688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mbria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         </a:t>
            </a:r>
            <a:r>
              <a:rPr b="0" lang="ru-RU" sz="2500" spc="-1" strike="noStrike">
                <a:solidFill>
                  <a:srgbClr val="000000"/>
                </a:solidFill>
                <a:latin typeface="Cambria"/>
              </a:rPr>
              <a:t>В настоящее время в современной школе все шире и шире используется личностно-ориентированное направление обучения, основным принципом которого является признание индивидуальности ученика, создание необходимых и достаточных условий для его развития.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mbria"/>
              </a:rPr>
              <a:t>          </a:t>
            </a:r>
            <a:r>
              <a:rPr b="0" lang="ru-RU" sz="2500" spc="-1" strike="noStrike">
                <a:solidFill>
                  <a:srgbClr val="000000"/>
                </a:solidFill>
                <a:latin typeface="Cambria"/>
              </a:rPr>
              <a:t>Технологизация личностно-ориентированного образовательного процесса предполагает специальное конструирование учебного процесса, дидактического материала, типов учебного диалога, форм контроля за личностным развитием ученика в ходе овладения знаниями.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mbria"/>
              </a:rPr>
              <a:t>          </a:t>
            </a:r>
            <a:r>
              <a:rPr b="0" lang="ru-RU" sz="2500" spc="-1" strike="noStrike">
                <a:solidFill>
                  <a:srgbClr val="000000"/>
                </a:solidFill>
                <a:latin typeface="Cambria"/>
              </a:rPr>
              <a:t>На сегодняшний день единственной формой аттестации выпускников 9-х классов является  государственный экзамен. В условиях дистанционного обучения эта тема актуальная при  подготовки школьников к такому экзамену.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есты самоконтроля</a:t>
            </a:r>
            <a:endParaRPr b="0" lang="en-US" sz="40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mbria"/>
              </a:rPr>
              <a:t>Высылаются тесты или  активные ссылки на ресурсы,  для контроля за изученным материалом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Коллекция материалов по разным профилям трудового обучения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ff"/>
                </a:solidFill>
                <a:uFillTx/>
                <a:latin typeface="Perpetua"/>
                <a:hlinkClick r:id="rId1"/>
              </a:rPr>
              <a:t>https://mosmetod.ru/metodicheskoe-prostranstvo/srednyaya-i-starshaya-shkola/tekhnologiya/metodicheskie-materialy/elektr-uch-materialy/dist-ob-tehn-5-7.htm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нлайн-ресурсы</a:t>
            </a:r>
            <a:endParaRPr b="0" lang="en-US" sz="40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44792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mbria"/>
              </a:rPr>
              <a:t>Интернет ресурсы (ссылки) на источники получения информации, согласно материалу изучаемого билета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40120" indent="-24012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40120" indent="-240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40120" indent="-240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Экскурсия в  магазин  обоев 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Perpetua"/>
                <a:hlinkClick r:id="rId1"/>
              </a:rPr>
              <a:t>https://youtu.be/8D3-lFzeq2Y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40120" indent="-240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Ткацкое производство. Хлопок. 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Perpetua"/>
                <a:hlinkClick r:id="rId2"/>
              </a:rPr>
              <a:t>https://youtu.be/9jFuxsNOsWA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40120" indent="-240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Пороки древесины 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Perpetua"/>
                <a:hlinkClick r:id="rId3"/>
              </a:rPr>
              <a:t>https://youtu.be/zpq-8AJj7qo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40120" indent="-240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Устройство краскопульта 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Perpetua"/>
                <a:hlinkClick r:id="rId4"/>
              </a:rPr>
              <a:t>https://youtu.be/_-FRMq0HcmQ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40120" indent="-240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Уход за кухней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Perpetua"/>
                <a:hlinkClick r:id="rId5"/>
              </a:rPr>
              <a:t>https://youtu.be/tPebztvdej4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40120" indent="-240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40120" indent="-240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ематические тесты</a:t>
            </a:r>
            <a:endParaRPr b="0" lang="en-US" sz="40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mbria"/>
              </a:rPr>
              <a:t>Тесты по разделам и темам в зависимости от изучаемого трудового профиля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50920" indent="-25092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50920" indent="-25092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Онлайн- тесты    </a:t>
            </a:r>
            <a:r>
              <a:rPr b="0" lang="en-US" sz="2600" spc="-1" strike="noStrike" u="sng">
                <a:solidFill>
                  <a:srgbClr val="0000ff"/>
                </a:solidFill>
                <a:uFillTx/>
                <a:latin typeface="Perpetua"/>
                <a:hlinkClick r:id="rId1"/>
              </a:rPr>
              <a:t>https://site.bilet.worldskills.ru/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50920" indent="-25092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50920" indent="-25092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Образовательная платформа 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50920" indent="-25092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Учи.ру 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ttps://uchi.ru/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предлагает интерактивные курсы по предметам и подготовке к проверочным работам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50920" indent="-2509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50920" indent="-25092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онтрольные работы</a:t>
            </a:r>
            <a:endParaRPr b="0" lang="en-US" sz="40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mbria"/>
              </a:rPr>
              <a:t>Работа по обобщению и систематизации изученного материала согласно теме изучаемого билета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На портале ЯКласс 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ttps://www.yaklass.ru/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можно создавать проверочные работы. Если ребенок ошибается, система объясняет ход решения задания и предлагают выполнить другой вариант. Учитель, в свою очередь, получает отчет о том, как ученики справляются с заданиями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епетиция - онлайн</a:t>
            </a:r>
            <a:endParaRPr b="0" lang="en-US" sz="40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042920" y="1484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Взаимодействие учитель-ученик происходит через мессенджер </a:t>
            </a:r>
            <a:r>
              <a:rPr b="0" lang="en-US" sz="2800" spc="-1" strike="noStrike">
                <a:solidFill>
                  <a:srgbClr val="ffffff"/>
                </a:solidFill>
                <a:latin typeface="Perpetua"/>
              </a:rPr>
              <a:t>WhatsApp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. Где в режиме реального времени учащиеся рассказывают выученные  темы по обобщению и систематизации изученного материала согласно теме изучаемого билета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онсультации учителей</a:t>
            </a:r>
            <a:endParaRPr b="0" lang="en-US" sz="40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9640" y="141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mbria"/>
              </a:rPr>
              <a:t>В режиме он-лайн через 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мессенджер </a:t>
            </a:r>
            <a:r>
              <a:rPr b="0" lang="en-US" sz="2800" spc="-1" strike="noStrike">
                <a:solidFill>
                  <a:srgbClr val="ffffff"/>
                </a:solidFill>
                <a:latin typeface="Perpetua"/>
              </a:rPr>
              <a:t>WhatsApp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 учителя осуществляют ежедневное консультирование по вопросам подготовки к итоговой аттестации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Лекционно-практические занятия</a:t>
            </a:r>
            <a:endParaRPr b="0" lang="en-US" sz="40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95280" y="1267920"/>
            <a:ext cx="84247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mbria"/>
              </a:rPr>
              <a:t>Учащиеся через ссылку присланную учителем, прослушивают материал по теме билета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Строгание заготовок из древесины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ttps://youtu.be/39u6ga5hHtc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Как правильно вметать рукав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ttps://youtu.be/3LLvohwmeBI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Обзор малярного инструмента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ttps://youtu.be/BOGdMbWRmrE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Видеофрагмент "Формула выбора профессии"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ttps://uchebnik.mos.ru/catalogue/material_view/atomic_objects/5451392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05:38:03Z</dcterms:created>
  <dc:creator>User</dc:creator>
  <dc:description/>
  <dc:language>en-US</dc:language>
  <cp:lastModifiedBy>Пользователь</cp:lastModifiedBy>
  <dcterms:modified xsi:type="dcterms:W3CDTF">2020-05-13T05:12:18Z</dcterms:modified>
  <cp:revision>77</cp:revision>
  <dc:subject/>
  <dc:title>Слайд 1</dc:title>
</cp:coreProperties>
</file>